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F20B-0648-45A7-A516-E7E2D018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E054-F325-47CD-B919-C063A01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92BA-2652-408C-ABFC-8932173A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F08F-FFD9-46DF-A3F6-81BA59CF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F0C5-2FAF-4DA4-AC15-D35D2AEB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ABC3-C991-4E9D-8924-1996E290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986B-805C-4E41-BE7E-953D8AB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7A87-6FC1-4E71-AD54-F829CD97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116C-466D-4E82-B93C-B1818704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1758-7DC1-4136-B33B-6E7D7D84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0BD-1806-4E51-AB76-5DFD671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CFFA-3010-45B4-9C0E-35B7580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6CA6-CE50-4C8A-944A-0017DCD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1344-5660-4294-8001-1047EE6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2638-4969-4015-B86E-AD27EECE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4011-5304-4E92-A276-E12A4BC0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37E9-C691-48BC-8B0A-F2D14F3B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2BB5-C2F0-4EC0-992A-AFBAB7B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198B-DD66-448E-AA6B-BC555BB1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096E-40AB-4C42-901B-65BE7C2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C4F9-213F-41A6-A07B-2BCD5435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0131-CF71-4DC9-B134-6636491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9CF7-BF45-4D2F-827F-17B051B6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64FB-06F9-478C-8869-590B434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8B9F-F688-4520-BA53-99F8304A9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56D-44A0-4394-B4A6-3EDA0A070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REEDOM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ID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4800" cy="322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23840" y="571176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z.about.com/d/afroamhistory/1/0/E/8/busdesegregation_freedomrid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were attacked or threatened for helping bl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5099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bama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d most trouble, it turned into a strugg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way ‘cross Alab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 ‘hound broke down, and left us all strand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owntown Birmingh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600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em by Chuck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65833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www.npr.org/templates/story/story.php?storyId=51496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080" y="65530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em found 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aci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James 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against racial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38000" y="624852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z.about.com/d/afroamhistory/1/0/O/4/jamesfarm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on two buses from Washington D.C. to New Orl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52216" t="2894" r="1284" b="0"/>
          <a:stretch/>
        </p:blipFill>
        <p:spPr>
          <a:xfrm>
            <a:off x="4419720" y="1447920"/>
            <a:ext cx="3733560" cy="5114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5029200" y="327636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86720" y="6564240"/>
            <a:ext cx="278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http://www.greatplay.net/blank-us.b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nviolent Coordina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21055200">
            <a:off x="1142640" y="3276720"/>
            <a:ext cx="149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 rot="284400">
            <a:off x="6019560" y="3276720"/>
            <a:ext cx="228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ELP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76720" y="4952880"/>
            <a:ext cx="200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of Racial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291600">
            <a:off x="6477120" y="4343400"/>
            <a:ext cx="149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 rot="20115600">
            <a:off x="1523520" y="3200040"/>
            <a:ext cx="24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BIG HEL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09680" y="5257800"/>
            <a:ext cx="271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DEVELOP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K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u Klux K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1224600">
            <a:off x="964800" y="2994120"/>
            <a:ext cx="1219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200400" cy="2781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20523600">
            <a:off x="228240" y="5791320"/>
            <a:ext cx="2795760" cy="24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V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 rot="18827400">
            <a:off x="6057720" y="4304880"/>
            <a:ext cx="2495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RAC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n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e on buses to stop racial discr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od up for Tom Robinson when he was tr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447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R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4479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4267080" cy="2344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41148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3160"/>
            <a:ext cx="403848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 racism was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2243160"/>
            <a:ext cx="403848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 racism was igno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447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R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447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22923" r="0" b="16673"/>
          <a:stretch/>
        </p:blipFill>
        <p:spPr>
          <a:xfrm>
            <a:off x="1523880" y="3886200"/>
            <a:ext cx="5515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Riders Vs. 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th, people were fighting for equal rights and ending discrimination for bl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52680" y="3809880"/>
            <a:ext cx="2057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19920" y="3733920"/>
            <a:ext cx="1676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auhaus 93"/>
              </a:rPr>
              <a:t>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auhaus 93"/>
              <a:ea typeface="Bauhaus 93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3733920"/>
            <a:ext cx="1676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auhaus 93"/>
              </a:rPr>
              <a:t>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auhaus 93"/>
              <a:ea typeface="Bauhaus 93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4267080"/>
            <a:ext cx="125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48520" y="4267080"/>
            <a:ext cx="114444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3:21:47Z</dcterms:created>
  <dc:creator>MBOE</dc:creator>
  <dc:description/>
  <dc:language>en-US</dc:language>
  <cp:lastModifiedBy>james malaney User</cp:lastModifiedBy>
  <dcterms:modified xsi:type="dcterms:W3CDTF">2009-04-01T02:05:52Z</dcterms:modified>
  <cp:revision>4</cp:revision>
  <dc:subject/>
  <dc:title>FREEDOM RIDERS</dc:title>
</cp:coreProperties>
</file>